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D3CE-443F-4D22-8A60-F30B218F8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8E05-A84A-4423-A848-F5E0E6D57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D90F-9675-4BC3-A002-DE4822D5D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8730-ECCA-4FB5-B74E-6D03856F6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8561-CAA7-414A-9F48-80291D555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F4BB-E5C4-4028-B441-EA60CC48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AED9-0886-4BFB-9397-BA122F6AB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3FC8-6575-4530-8F15-0853FD13E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E73F-9CC5-433A-BD3C-8F24A9859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7FBE-0B61-473A-AA6A-2FB74AE0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0609-1FBB-4FBD-894E-9172F504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CB2D-875B-4275-B214-964E206F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A5E52-CA3B-4BDF-BDF2-F58C2DE447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25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295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ANARKSHIRE  ASSOC. 1922      LANARKSHIRE  ASSOC.  1928          LANARKSHIRE  ASSOC.           LANARKSHIRE  ASSOC.  100TH.                     BELTANE                                             BELTA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99736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ELTANE                                             BIGGAR                                           CARLUKE                                         CARLUKE                                         CARLUKE                          CARLUKE  V  CAMPHILL  100TH.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RLUKE  100TH                          CARLUKE  125TH                                      CARNWATH                                   CARSTAIRS                                        CASTLEHILL                             CASTLEHILL  6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4008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LVILLE  PARK                      COLVILLE  PARK                              COLVILLE  PARK  5OTH                COLVILLE  PARK  75TH                            DALZELL                                           DALZE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513240" y="189000"/>
            <a:ext cx="1189080" cy="1157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240160" y="260280"/>
            <a:ext cx="951120" cy="1023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681960" y="404640"/>
            <a:ext cx="1023840" cy="924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8265960" y="260280"/>
            <a:ext cx="1097280" cy="1009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2073240" y="1989000"/>
            <a:ext cx="1133640" cy="997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5024520" y="1628640"/>
            <a:ext cx="1390680" cy="1316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488880" y="3141720"/>
            <a:ext cx="1352520" cy="1619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3800520" y="3860640"/>
            <a:ext cx="987480" cy="900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5168880" y="3716280"/>
            <a:ext cx="1133640" cy="1033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0"/>
          <a:stretch/>
        </p:blipFill>
        <p:spPr>
          <a:xfrm>
            <a:off x="6824520" y="3716280"/>
            <a:ext cx="970200" cy="987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1"/>
          <a:stretch/>
        </p:blipFill>
        <p:spPr>
          <a:xfrm>
            <a:off x="776160" y="5516640"/>
            <a:ext cx="822600" cy="887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2"/>
          <a:stretch/>
        </p:blipFill>
        <p:spPr>
          <a:xfrm>
            <a:off x="2144880" y="5373720"/>
            <a:ext cx="877680" cy="1060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3"/>
          <a:stretch/>
        </p:blipFill>
        <p:spPr>
          <a:xfrm>
            <a:off x="3873600" y="5084640"/>
            <a:ext cx="858600" cy="12891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4"/>
          <a:stretch/>
        </p:blipFill>
        <p:spPr>
          <a:xfrm>
            <a:off x="5240160" y="5373720"/>
            <a:ext cx="1097280" cy="10476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5"/>
          <a:stretch/>
        </p:blipFill>
        <p:spPr>
          <a:xfrm>
            <a:off x="6681960" y="5157720"/>
            <a:ext cx="1352520" cy="1279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6"/>
          <a:stretch/>
        </p:blipFill>
        <p:spPr>
          <a:xfrm>
            <a:off x="8408880" y="5373720"/>
            <a:ext cx="878040" cy="1033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7"/>
          <a:stretch/>
        </p:blipFill>
        <p:spPr>
          <a:xfrm>
            <a:off x="8265960" y="1700280"/>
            <a:ext cx="1206720" cy="12891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8"/>
          <a:stretch/>
        </p:blipFill>
        <p:spPr>
          <a:xfrm>
            <a:off x="6608880" y="1773360"/>
            <a:ext cx="1326960" cy="1177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9"/>
          <a:stretch/>
        </p:blipFill>
        <p:spPr>
          <a:xfrm>
            <a:off x="3728880" y="1989000"/>
            <a:ext cx="1009800" cy="10065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0"/>
          <a:stretch/>
        </p:blipFill>
        <p:spPr>
          <a:xfrm>
            <a:off x="2000160" y="3429000"/>
            <a:ext cx="1284480" cy="1324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1"/>
          <a:stretch/>
        </p:blipFill>
        <p:spPr>
          <a:xfrm>
            <a:off x="8193240" y="3933720"/>
            <a:ext cx="1326960" cy="8193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2"/>
          <a:stretch/>
        </p:blipFill>
        <p:spPr>
          <a:xfrm>
            <a:off x="560520" y="2060640"/>
            <a:ext cx="1060200" cy="960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3"/>
          <a:stretch/>
        </p:blipFill>
        <p:spPr>
          <a:xfrm>
            <a:off x="560520" y="260280"/>
            <a:ext cx="1114200" cy="10573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4"/>
          <a:stretch/>
        </p:blipFill>
        <p:spPr>
          <a:xfrm>
            <a:off x="2073240" y="260280"/>
            <a:ext cx="108576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7T07:54:25Z</dcterms:created>
  <dc:creator>JOHN YOUNG</dc:creator>
  <dc:description/>
  <dc:language>en-US</dc:language>
  <cp:lastModifiedBy>JY</cp:lastModifiedBy>
  <cp:lastPrinted>1999-12-15T19:38:48Z</cp:lastPrinted>
  <dcterms:modified xsi:type="dcterms:W3CDTF">2008-04-08T09:35:38Z</dcterms:modified>
  <cp:revision>25</cp:revision>
  <dc:subject/>
  <dc:title>No Slide Title</dc:title>
</cp:coreProperties>
</file>